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EB538-AAA5-4E25-8B24-BD38742DB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7FDC-D76C-47E3-8081-9E5B046B9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93465-D2FB-4510-8C54-B9F90F1C2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49CAD-ED76-4E3D-8A23-2ED7412AB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7718-F3B3-409F-9444-BDC52E96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948E-3F0B-48DF-B04E-49DE21D4D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84A8D-7DF8-4C3E-B4A7-B40A971E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A193D-A471-46B3-8643-7218CF3EC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DB52-0DE3-4ED3-AAFD-F91482C1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6495-3736-479A-9F65-107EE38E0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62FD-3CCE-41BE-AEEB-9B12FBC01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0878-62DA-4AD6-AF8B-BF7374886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CB9F-B321-4194-A099-79CB733F6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thomley</cp:lastModifiedBy>
  <dcterms:modified xsi:type="dcterms:W3CDTF">2005-10-12T21:06:01Z</dcterms:modified>
  <cp:revision>51</cp:revision>
  <dc:subject/>
  <dc:title>PowerPoint Presentation</dc:title>
</cp:coreProperties>
</file>